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11.png" ContentType="image/png"/>
  <Override PartName="/ppt/media/image6.wmf" ContentType="image/x-wmf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70DF8-D0AE-4018-BE40-A767C179C8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00843-75EA-4E46-93B0-56109FDD97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D429105-7D53-4D0B-86A9-0DEF921CDA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459F5-ED57-46D7-B27A-78F10D9DB8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A538BAA-227E-47D1-BA54-DAF5CD516C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8452587-EE22-4BB4-8C11-C4BD7AF8A9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1D4D685-5D05-43C3-8C84-CF9BCF8DDE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28E7457-9A40-4FED-9DB0-409F60170C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A6E3E37-FD6D-40F0-97DD-42F6FEED6B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1494E-F546-4947-A59C-FEABDCC8BC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16E92C-3E86-4D6E-8C93-6D4AC34399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F68D9C-50AB-44D3-AED5-CD6DC7ED94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B6D652-D438-4758-A826-21EE54758B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859776-10C5-4509-9373-3DF0B31E60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76E3-5820-419B-80A6-AA215539854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6024-1382-47A7-A39A-72EFBA6DD5E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3ED3-A0B2-454D-BD84-E6BE5969688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FA6E-A272-4397-9CF5-A521DDB1C7F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2CCF-4733-4882-830A-7F5D8592AED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46F4-08A4-4691-AA91-05A3A6E3C7D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D998-2BBF-449D-8FFA-01B2F0F3541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D0BF2C-9BBB-418F-9FE3-6288E4F721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DBF4-28F1-4CA4-BEB4-668F0B495CE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E883-C016-4211-8F3E-E1E529578EA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9027-8F62-4B8A-A631-45D87996497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F2C1-70EA-4018-8E4D-964F4E1B148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D2DA-798A-4D64-B136-490D8614D84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D9546A-8A69-4A09-92CE-ECD6047B28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FBD84A-6833-4FD8-9973-32355E982D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70AF47-B261-4C24-A133-B3A5E2C478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CF94C-573C-4965-B755-F3FB362ECC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A9321D-A1BF-4BB8-BCC0-C534EF0A0E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335E44-DFD3-41C2-9920-E384909CBC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C851EE-076D-43D7-90C4-66F3CAF692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73C71-1D04-4168-ACD7-DE121EC3C68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FA6A1-34AE-471E-B6FB-3A6879401FF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16" descr="WHO-EN-C-H"/>
          <p:cNvPicPr/>
          <p:nvPr/>
        </p:nvPicPr>
        <p:blipFill>
          <a:blip r:embed="rId2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2BSLATH"/>
          <p:cNvPicPr/>
          <p:nvPr/>
        </p:nvPicPr>
        <p:blipFill>
          <a:blip r:embed="rId3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1" descr="HHS-Logo-blue"/>
          <p:cNvPicPr/>
          <p:nvPr/>
        </p:nvPicPr>
        <p:blipFill>
          <a:blip r:embed="rId4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971800" y="1828800"/>
            <a:ext cx="617220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Process Control:</a:t>
            </a:r>
            <a:br>
              <a:rPr sz="48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Introduction to Quality Contr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0E34-E370-481E-BD22-06AD96984A5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C 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ortant part of quality management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al is to identify errors and eliminate them before reporting patient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 methods applied for quantitative, qualitative, and semi-quantitative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82963B-6CF1-4BA7-B555-16CF9EC8A63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232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6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247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248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249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1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2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3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254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Text Box 74"/>
              <p:cNvSpPr/>
              <p:nvPr/>
            </p:nvSpPr>
            <p:spPr>
              <a:xfrm>
                <a:off x="24940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257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258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0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1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2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263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5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7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268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0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272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275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7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281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284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287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47C881-5A00-4CA9-815E-19BE0862C68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module, participants should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fine quality control and describe its relationship to the overall quality management system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scribe differences in quantitative, qualitative, and semi-quantitative examina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FE188D-6DDF-4835-A513-B6B4FC1DAE4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533520"/>
            <a:ext cx="7543800" cy="2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33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48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49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50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2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55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 Box 74"/>
              <p:cNvSpPr/>
              <p:nvPr/>
            </p:nvSpPr>
            <p:spPr>
              <a:xfrm>
                <a:off x="4094280" y="15051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58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59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64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69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73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76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82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85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88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ADA84F-A707-4DA5-AFCF-8B1956ADA88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efini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80880" y="1294920"/>
            <a:ext cx="82296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ality Control  (QC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part of quality management focused on fulfilling quality requirement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SO 9000:2000  (3.4.10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C is examining “control” materials of known substances along with patient samples to monitor the accuracy and precision of the complete examination (analytic) process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80A974-8F66-48CC-B81D-7FD1C2F7B17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rpos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80880" y="1905120"/>
            <a:ext cx="8229600" cy="266688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The </a:t>
            </a: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goal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 of QC is to detect errors and correct them before patients’ results are reported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23F4AD-36CF-41E2-9B0B-790FB312425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tative Examina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7467480" cy="85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easu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he quantity of a particular substance in a samp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6" name="Group 21"/>
          <p:cNvGrpSpPr/>
          <p:nvPr/>
        </p:nvGrpSpPr>
        <p:grpSpPr>
          <a:xfrm>
            <a:off x="609480" y="4267080"/>
            <a:ext cx="1828800" cy="1447560"/>
            <a:chOff x="609480" y="4267080"/>
            <a:chExt cx="1828800" cy="1447560"/>
          </a:xfrm>
        </p:grpSpPr>
        <p:grpSp>
          <p:nvGrpSpPr>
            <p:cNvPr id="197" name="Group 18"/>
            <p:cNvGrpSpPr/>
            <p:nvPr/>
          </p:nvGrpSpPr>
          <p:grpSpPr>
            <a:xfrm>
              <a:off x="609480" y="4267080"/>
              <a:ext cx="1828800" cy="1447560"/>
              <a:chOff x="609480" y="4267080"/>
              <a:chExt cx="1828800" cy="1447560"/>
            </a:xfrm>
          </p:grpSpPr>
          <p:sp>
            <p:nvSpPr>
              <p:cNvPr id="198" name="AutoShape 6"/>
              <p:cNvSpPr/>
              <p:nvPr/>
            </p:nvSpPr>
            <p:spPr>
              <a:xfrm>
                <a:off x="838080" y="4724280"/>
                <a:ext cx="1371600" cy="990360"/>
              </a:xfrm>
              <a:prstGeom prst="triangle">
                <a:avLst>
                  <a:gd name="adj" fmla="val 50000"/>
                </a:avLst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Rectangle 7"/>
              <p:cNvSpPr/>
              <p:nvPr/>
            </p:nvSpPr>
            <p:spPr>
              <a:xfrm>
                <a:off x="609480" y="4647960"/>
                <a:ext cx="1828800" cy="76320"/>
              </a:xfrm>
              <a:prstGeom prst="rect">
                <a:avLst/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00" name="Picture 16" descr="Beaker"/>
              <p:cNvPicPr/>
              <p:nvPr/>
            </p:nvPicPr>
            <p:blipFill>
              <a:blip r:embed="rId1"/>
              <a:stretch/>
            </p:blipFill>
            <p:spPr>
              <a:xfrm>
                <a:off x="609480" y="4267080"/>
                <a:ext cx="406440" cy="42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1" name="Rectangle 17"/>
              <p:cNvSpPr/>
              <p:nvPr/>
            </p:nvSpPr>
            <p:spPr>
              <a:xfrm>
                <a:off x="2133360" y="4419360"/>
                <a:ext cx="228600" cy="22860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2" name="AutoShape 19"/>
            <p:cNvSpPr/>
            <p:nvPr/>
          </p:nvSpPr>
          <p:spPr>
            <a:xfrm>
              <a:off x="1257120" y="5257440"/>
              <a:ext cx="533520" cy="30492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20"/>
            <p:cNvSpPr/>
            <p:nvPr/>
          </p:nvSpPr>
          <p:spPr>
            <a:xfrm flipH="1" flipV="1">
              <a:off x="1447560" y="5409720"/>
              <a:ext cx="7632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4" name="Picture 47" descr="Beaker"/>
          <p:cNvPicPr/>
          <p:nvPr/>
        </p:nvPicPr>
        <p:blipFill>
          <a:blip r:embed="rId2"/>
          <a:stretch/>
        </p:blipFill>
        <p:spPr>
          <a:xfrm>
            <a:off x="7010280" y="4419720"/>
            <a:ext cx="1322640" cy="13842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3" descr="Thermometer"/>
          <p:cNvPicPr/>
          <p:nvPr/>
        </p:nvPicPr>
        <p:blipFill>
          <a:blip r:embed="rId3"/>
          <a:stretch/>
        </p:blipFill>
        <p:spPr>
          <a:xfrm rot="18049800">
            <a:off x="6998400" y="4279320"/>
            <a:ext cx="2203200" cy="19836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54"/>
          <p:cNvSpPr/>
          <p:nvPr/>
        </p:nvSpPr>
        <p:spPr>
          <a:xfrm>
            <a:off x="533520" y="251460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ements should be both accurate and prec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4"/>
          <a:stretch/>
        </p:blipFill>
        <p:spPr>
          <a:xfrm>
            <a:off x="2666880" y="3657600"/>
            <a:ext cx="3962520" cy="2649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85D938-6461-4EE5-82D2-B7B1B58EED09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ative Examination Method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5228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aminations that do not have numerical result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owth or no growt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sitive or negati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active or non-reactiv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lor chan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5943600" y="1981080"/>
            <a:ext cx="2535120" cy="169704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rcRect l="10457" t="0" r="10457" b="11066"/>
          <a:stretch/>
        </p:blipFill>
        <p:spPr>
          <a:xfrm>
            <a:off x="5943600" y="3429000"/>
            <a:ext cx="2514600" cy="178272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rcRect l="49702" t="34558" r="6776" b="26878"/>
          <a:stretch/>
        </p:blipFill>
        <p:spPr>
          <a:xfrm>
            <a:off x="5943600" y="5029200"/>
            <a:ext cx="2638440" cy="1374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13BBA2-0518-4D9F-B1D3-6D509459702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5345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Semi-quantitative Examination Method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sults are expressed as an estimate of the measured substance: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race amount”, “moderate amount,” or “1+, 2+, or 3+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umber of cells per microscopic field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iters and dilutions in serologic tes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1EBBBC-BB3F-4E81-AFBB-62F68383EC0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"/>
          <p:cNvGrpSpPr/>
          <p:nvPr/>
        </p:nvGrpSpPr>
        <p:grpSpPr>
          <a:xfrm>
            <a:off x="666720" y="750600"/>
            <a:ext cx="7962480" cy="5356800"/>
            <a:chOff x="666720" y="750600"/>
            <a:chExt cx="7962480" cy="5356800"/>
          </a:xfrm>
        </p:grpSpPr>
        <p:sp>
          <p:nvSpPr>
            <p:cNvPr id="216" name="_s10255"/>
            <p:cNvSpPr/>
            <p:nvPr/>
          </p:nvSpPr>
          <p:spPr>
            <a:xfrm flipH="1">
              <a:off x="2657520" y="3428640"/>
              <a:ext cx="9950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10254"/>
            <p:cNvSpPr/>
            <p:nvPr/>
          </p:nvSpPr>
          <p:spPr>
            <a:xfrm>
              <a:off x="666720" y="2759040"/>
              <a:ext cx="1990440" cy="1338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Review </a:t>
              </a:r>
              <a:br>
                <a:rPr sz="2800"/>
              </a:b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QC dat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_s10253"/>
            <p:cNvSpPr/>
            <p:nvPr/>
          </p:nvSpPr>
          <p:spPr>
            <a:xfrm>
              <a:off x="4647960" y="4098240"/>
              <a:ext cx="0" cy="669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10252"/>
            <p:cNvSpPr/>
            <p:nvPr/>
          </p:nvSpPr>
          <p:spPr>
            <a:xfrm>
              <a:off x="3652560" y="4767840"/>
              <a:ext cx="1990440" cy="13395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Assure </a:t>
              </a:r>
              <a:br>
                <a:rPr sz="1900"/>
              </a:b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complete </a:t>
              </a:r>
              <a:br>
                <a:rPr sz="1900"/>
              </a:b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documentation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10251"/>
            <p:cNvSpPr/>
            <p:nvPr/>
          </p:nvSpPr>
          <p:spPr>
            <a:xfrm>
              <a:off x="5643000" y="3428640"/>
              <a:ext cx="9950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10250"/>
            <p:cNvSpPr/>
            <p:nvPr/>
          </p:nvSpPr>
          <p:spPr>
            <a:xfrm>
              <a:off x="6638400" y="2759040"/>
              <a:ext cx="1990800" cy="1338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in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ll staf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10249"/>
            <p:cNvSpPr/>
            <p:nvPr/>
          </p:nvSpPr>
          <p:spPr>
            <a:xfrm flipV="1">
              <a:off x="4647960" y="2089440"/>
              <a:ext cx="0" cy="669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0248"/>
            <p:cNvSpPr/>
            <p:nvPr/>
          </p:nvSpPr>
          <p:spPr>
            <a:xfrm>
              <a:off x="3652560" y="750600"/>
              <a:ext cx="1990440" cy="1338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stablish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written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olicies and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rocedur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0247"/>
            <p:cNvSpPr/>
            <p:nvPr/>
          </p:nvSpPr>
          <p:spPr>
            <a:xfrm>
              <a:off x="3652560" y="2759040"/>
              <a:ext cx="1990440" cy="1338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2819520" y="2590920"/>
            <a:ext cx="3733560" cy="157392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QC Program Ste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791320" y="1219320"/>
            <a:ext cx="1295280" cy="60948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162920" y="990720"/>
            <a:ext cx="160020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nclude corrective 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FB90B-8CF0-4030-BE99-23E57CCDF71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2T16:02:30Z</dcterms:created>
  <dc:creator>Owner</dc:creator>
  <dc:description/>
  <dc:language>en-US</dc:language>
  <cp:lastModifiedBy>bergera</cp:lastModifiedBy>
  <dcterms:modified xsi:type="dcterms:W3CDTF">2009-05-19T13:26:15Z</dcterms:modified>
  <cp:revision>37</cp:revision>
  <dc:subject/>
  <dc:title>Quality Control Overview</dc:title>
</cp:coreProperties>
</file>